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88D9-2EFD-4A59-860C-D2DD147FC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8C6C-9735-42EF-876D-D4E732A3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585C-7521-4E1D-8421-1B73E9A78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4C62-5EC9-4AD6-B13C-B492312AE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A1F9-2F17-42B3-940A-92ADDE97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BDF6-7B6B-4034-9058-81208BAA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8445-5FBB-4820-8142-239D6B2C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2373-7A31-495F-9BB2-ED2F269C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E49D-13E2-4F43-9E59-AEEF8A59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1CCF-43F4-4ACE-9F7D-25E2E901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D6CB-5419-4133-A593-54E64E30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263E-56C9-4F0E-B685-3F274870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6FF6-DF8E-410D-A67B-259EB46A7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44 Choď, nádhernú zv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lása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oď, nádhernú zvesť hlás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krásnu správu zanes v dia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narodil sa, jas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ám prišiel Kristus, 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pokojná noc, tich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šetko vôkol sp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u z neba žiara jasn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em náhle obklop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oď, nádhernú zvesť hlás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krásnu správu zanes v dia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narodil sa, jas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ám prišiel Kristus, 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nie anjelský spev z neb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počesť Dieťať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ľudstvu daroval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á Láska presvät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oď, nádhernú zvesť hlás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krásnu správu zanes v dia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narodil sa, jas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ám prišiel Kristus, 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yn Boží k nám raz priši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svet sa narod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naše hriechy trpe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život polož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oď, nádhernú zvesť hlás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krásnu správu zanes v dia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narodil sa, jas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ám prišiel Kristus, Krá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0:17:41Z</dcterms:modified>
  <cp:revision>31</cp:revision>
  <dc:subject/>
  <dc:title>Je veľký náš Pán, on slávy je Kráľ Nech do všetkých strán  spev vrúcnych znie chvál.</dc:title>
</cp:coreProperties>
</file>